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131-0614-4CFE-B0D0-35E52F1B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7D2-39EF-4995-8058-4214B136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B42-B420-405A-91F8-EC1AF730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792-4DE1-4F8A-9861-C149DB56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5E98-690B-48EF-9298-55464B80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E80-C0D9-433D-A66C-D2CE3414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571D-9192-4613-93DB-FD9FA5C5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D140-E6C2-4108-8D37-FBBA7BEF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597D-6700-436F-A864-167A923D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F70-4CE1-498C-B03F-2982FD67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D41C-1F80-4233-8EC2-F29BCC6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015-6808-47E2-8BF7-F5733F52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D2D5-152E-4B0E-8B3B-B0CC051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474-B5C4-4B39-A5A7-AD4E4CE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E865-2EE8-4FEB-B9A2-89BF0030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310F-0664-4FC8-8604-33C83B80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C98B-7AB3-45E9-8D4E-4CB5FC0F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306-1A20-4EBB-89F8-EFDDDF05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D4E-3254-41A3-8D95-FA7FB97E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F23-31C5-4D7A-9887-8F5BC01F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3F9-095A-43F0-85B6-18453B03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124-8930-47A0-8296-89F18FA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021-2F14-4A5E-8634-D7545F6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734-7771-4274-8D2D-12A06265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DF5F-4DF9-43AA-9A9F-C16E03FF396F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147D-1E66-4527-8CC7-D5AED218FFB3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110000"/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reating Ma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formula for character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at are we doing?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Head up your page Character Scene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Use your imagination and invent a character by giving them a first name and a last name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en follow the instructions that I am going to give step by step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ull name) and action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ill in the blank), he/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Pronoun and active action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Memory or thought about the pas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Action sentence that concludes the scen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Jane Doe took hold of the chainsaw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I wonder how messy this will be, 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opened the door softly and stepped quietly into the room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thought of her last husband and a time when her life had been much simple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506520" indent="-506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Jane moved quietly to the edge of the bed where the man lay sleeping, then smiling coldly, she pulled the cord and brought the chainsaw to lif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Description Formula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81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ull name) standing in front of the mirro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A physically descriptive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Pronoun and descriptive sentence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(fill in the blank), 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oncluding action and leave mirror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004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Jane Doe stood in front of the mirro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The wrinkles around her eyes seemed deeper than she remembered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lifted a trembling hand to her short, dark hai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Where has the time gone, she thought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474480" indent="-474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3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She lowered her hand, shook her head sadly, and walked away from the mirror.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0:47:33Z</dcterms:created>
  <dc:creator>Ministry of Education</dc:creator>
  <dc:description/>
  <dc:language>en-US</dc:language>
  <cp:lastModifiedBy>Ministry of Education</cp:lastModifiedBy>
  <dcterms:modified xsi:type="dcterms:W3CDTF">2011-02-03T00:47:41Z</dcterms:modified>
  <cp:revision>3</cp:revision>
  <dc:subject/>
  <dc:title>Creating Man</dc:title>
</cp:coreProperties>
</file>